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457-BB9E-4F43-B003-807293DE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F21-52C0-43F7-B1B5-3E518F3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52E-7C09-496A-858B-B83E9D9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A78-03DE-463B-9B81-E8196F0A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350-6B63-40D7-B20C-74AA81BC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288-9A9C-46CC-8E7A-A0D1049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0D7-95A2-46DA-9EA4-8266B69A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667-3D3C-4BA0-AB01-1920530D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7A1-0056-4C0E-BB95-E38F4D6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BE7-0993-4D1F-811C-31C38A2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431-347B-4EB2-9222-41D9623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A28-FC98-44EF-970A-10FE28C5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8b8d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2E9A-32F1-4A93-BE82-F434831C5D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Materiálové porovnání otopných so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r Ing. 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971640" y="1484280"/>
          <a:ext cx="720864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864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755640" y="1484280"/>
          <a:ext cx="756432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5643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826920" y="1557360"/>
          <a:ext cx="7564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46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342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ff33"/>
                </a:solidFill>
                <a:latin typeface="Arial"/>
              </a:rPr>
              <a:t>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3" descr="2.NPd.jpg"/>
          <p:cNvPicPr/>
          <p:nvPr/>
        </p:nvPicPr>
        <p:blipFill>
          <a:blip r:embed="rId1"/>
          <a:stretch/>
        </p:blipFill>
        <p:spPr>
          <a:xfrm>
            <a:off x="250920" y="1268280"/>
            <a:ext cx="86929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1.NPd.jpg"/>
          <p:cNvPicPr/>
          <p:nvPr/>
        </p:nvPicPr>
        <p:blipFill>
          <a:blip r:embed="rId1"/>
          <a:stretch/>
        </p:blipFill>
        <p:spPr>
          <a:xfrm>
            <a:off x="755640" y="1285920"/>
            <a:ext cx="78836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sché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3" descr="Schemad.jpg"/>
          <p:cNvPicPr/>
          <p:nvPr/>
        </p:nvPicPr>
        <p:blipFill>
          <a:blip r:embed="rId1"/>
          <a:srcRect l="0" t="11170" r="0" b="0"/>
          <a:stretch/>
        </p:blipFill>
        <p:spPr>
          <a:xfrm>
            <a:off x="539640" y="1557360"/>
            <a:ext cx="809964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2.NPc.jpg"/>
          <p:cNvPicPr/>
          <p:nvPr/>
        </p:nvPicPr>
        <p:blipFill>
          <a:blip r:embed="rId1"/>
          <a:stretch/>
        </p:blipFill>
        <p:spPr>
          <a:xfrm>
            <a:off x="611280" y="1235160"/>
            <a:ext cx="795636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1.NPc.jpg"/>
          <p:cNvPicPr/>
          <p:nvPr/>
        </p:nvPicPr>
        <p:blipFill>
          <a:blip r:embed="rId1"/>
          <a:stretch/>
        </p:blipFill>
        <p:spPr>
          <a:xfrm>
            <a:off x="755640" y="1268280"/>
            <a:ext cx="7667640" cy="541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</a:t>
            </a:r>
            <a:br>
              <a:rPr sz="4000"/>
            </a:b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požadavek invest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Clanek.jpg"/>
          <p:cNvPicPr/>
          <p:nvPr/>
        </p:nvPicPr>
        <p:blipFill>
          <a:blip r:embed="rId1"/>
          <a:srcRect l="0" t="6674" r="0" b="0"/>
          <a:stretch/>
        </p:blipFill>
        <p:spPr>
          <a:xfrm>
            <a:off x="826920" y="1700280"/>
            <a:ext cx="7596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3" descr="2.NPj.jpg"/>
          <p:cNvPicPr/>
          <p:nvPr/>
        </p:nvPicPr>
        <p:blipFill>
          <a:blip r:embed="rId1"/>
          <a:stretch/>
        </p:blipFill>
        <p:spPr>
          <a:xfrm>
            <a:off x="900000" y="1413000"/>
            <a:ext cx="7523280" cy="531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1.NPj.jpg"/>
          <p:cNvPicPr/>
          <p:nvPr/>
        </p:nvPicPr>
        <p:blipFill>
          <a:blip r:embed="rId1"/>
          <a:stretch/>
        </p:blipFill>
        <p:spPr>
          <a:xfrm>
            <a:off x="826920" y="1387440"/>
            <a:ext cx="774072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6:11:35Z</dcterms:created>
  <dc:creator>.</dc:creator>
  <dc:description/>
  <dc:language>en-US</dc:language>
  <cp:lastModifiedBy>user</cp:lastModifiedBy>
  <dcterms:modified xsi:type="dcterms:W3CDTF">2016-10-06T18:41:36Z</dcterms:modified>
  <cp:revision>24</cp:revision>
  <dc:subject/>
  <dc:title>JEDNOTRUBKA A PODLAHOVÉ VYTÁPĚNÍ</dc:title>
</cp:coreProperties>
</file>